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54FCA76-DE62-4054-8424-D4E06E399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5D9EB66-D0F9-4BFA-BEF5-9A9F88758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A7F2CB8-77C8-453C-ACC8-1675A962F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CF363FD-2F74-4DD8-8A17-3FB7CD0FB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34BAFDA-52A2-4A9B-8005-01A183074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5259725-CAA7-47E3-AE4D-E457A2800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71BCE1B-7103-4B0A-AFE4-EA7557282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09DA539-840D-4DFF-B2C7-06B21B6DE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3D285EB-E26E-4A5C-8D79-99A003DE5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573E3F7-54E2-4EAA-A776-4D1451D36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01985F0-DF00-4AEC-B93C-846F70E3F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69E96E6-CDB7-4181-AB55-20A556175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EB889C4-CFA6-4A9A-A5A2-88AFF3842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8B26F45-83E6-45BD-A950-D65DF7A92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4247F10-DA2F-45AF-BC2A-9062A0081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 new words per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er, G., &amp; Gildea, P.  (1987). How children learn word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cientific American, 25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, 94-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&amp; Herman, P. A. (1987). Breadth and depth of vocabulary knowledge: Implications for acquisition and instruction. In M. G. McKeown and M. E. Curtis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ature of Vocabulary Acquis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illsdale, NJ: Lawrence Erlbaum, pp. 19-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Herman, P. A, &amp; Anderson, R. C. (1985). Learning words from context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Research Quarterly, 2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33-25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these words are acquired through reading after the third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 (1988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aching vocabulary to improve reading comprehensio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ark, Delaware: International Reading Assoc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&amp; Herman, P. A. (1987). Breadth and depth of vocabulary knowledge: Implications for acquisition and instruction. In M. G. McKeown and M. E. Curtis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ature of Vocabulary Acquis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illsdale, NJ: Lawrence Erlbaum, pp. 19-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not a substitute for wide exposure to text because of the differences in lexical d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ovich, K.E., West,R. F.,  Cunningham, A. E., Cipielewski, J., and Siddiqui, S. (1996). The role of inadequate print exposure as a determinant of reading comprehension problems. In E. Cornoldi &amp; J. Oakhill (Eds.), Reading comprehension difficulties: Processes and intervention (pp. 15-32).  Mahwah, NJ: Earlba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Text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dner, D. (2004). Vocabulary Input through extensive reading: A comparison of words found in children’s narrative and expository reading material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pplied Linguistics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1-3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8A371A6-7507-45A9-B097-30851F492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200" rIns="97200" tIns="48600" bIns="48600" anchor="t">
            <a:noAutofit/>
          </a:bodyPr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ovich, K.E., West,R. F.,  Cunningham, A. E., Cipielewski, J., and Siddiqui, S. (1996). The role of inadequate print exposure as a determinant of reading comprehension problems. In E. Cornoldi &amp; J. Oakhill (Eds.), Reading comprehension difficulties: Processes and intervention (pp. 15-32).  Mahwah, NJ: Earlba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drick, W. B., &amp; Cunningham, J. W. (2002).  Investigating the effect of wide reading on listening comprehension of written language.  Reading Psychology, 23, 107-12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comprehension to ensue, readers must be able to identify 95 percent of the words in a give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, M., &amp; Nation, I. S. P. (2000). Vocabulary density and reading comprehensio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in a Foreign Language,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689-9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fer, B. (1989). What percentage of text-lexis is essential for comprehension? In C. Lauren and M. Nordman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ecial Language: From Humans Thinking to Thinking Machin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adelphia: Multilingual Matters, pp. 316-2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fer, B. (1997). The lexical plight in second language reading: Words you don’t know, words you think you know, and words you can’t guess.  In J. Coady and T. Huckin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cond Language Vocabulary Acquisitio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ridge University Press, pp. 20-3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u, N., &amp; Nation, I. S. P. (1985). Factors affecting guessing vocabulary in context. RELC Journal, 16(1), 33-4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xson, K. K., &amp; Lipson, M. Y. (199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Disab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New York: Harper Coll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EED96D8-3CE8-4180-804F-A3A63890E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BF79EDC-CF8A-4132-B453-253CBC875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6018D47-0F26-4AA3-9C97-FD4A5F30B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91AA6F6-B8AC-49A5-9A40-B90CEB357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AA2F5E0-03D5-4670-A4E4-86610EB1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0C67160-0537-48F6-AD91-FA59637CD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33F1118-F0AD-49C7-8654-4716289A8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0E0F6FC-C01A-417D-B6A1-99496E620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6709219-6292-4841-BFD5-ED2A06E2B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7D76C57-2305-4462-9FAF-F7DCEA879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7C4-EB13-45CF-9E47-FB6C9E46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CE2-3A88-42FC-82E2-F40811E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85B-D105-4CFA-BD5E-B637C5A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306-395B-4010-BAB3-E2439DE0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60E5-6E00-4746-A9C6-1D64A167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87E4-B847-4E27-A627-1C4C7E5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CE8-E9B1-4DE6-8F40-7A29130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7730-DFE6-419F-B30F-A6AA9365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7021-BB4E-41CD-8E8F-9331650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C62-DD0D-4CB2-BE7C-8C307EF5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F345-4B93-483E-93DE-1ABA5DF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CC4-1A57-48E6-9856-77F9959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4809-A290-41CE-80B2-5EFB0BD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96D8-CF8C-4F80-B2F1-AF45B4F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EC9-A708-4CFE-B461-C3B9E48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123-6AC8-427E-8D94-96BBD5DA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1B1F-7380-402B-9D09-E5C66D2B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951-3853-458D-95F9-454494D4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FCB-E9AC-446B-AA39-8FF3F4D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68F-0025-4ECB-B2E0-A0647D3C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848-38F2-4A95-BE96-2D68A3B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B91-88E1-4C5F-8475-B5070A3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193-3C61-4A73-9339-8DDE659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9C3-A1A6-4CFD-8EB9-163F7603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ookslaptop_300dpi copy s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6956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227160">
              <a:spcBef>
                <a:spcPts val="700"/>
              </a:spcBef>
              <a:buClr>
                <a:srgbClr val="000000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8DF5-B32F-498E-B5E1-03D84086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ookslaptop_300dpi copy titl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bookshare_300dpi"/>
          <p:cNvPicPr/>
          <p:nvPr/>
        </p:nvPicPr>
        <p:blipFill>
          <a:blip r:embed="rId3"/>
          <a:stretch/>
        </p:blipFill>
        <p:spPr>
          <a:xfrm>
            <a:off x="457200" y="1447920"/>
            <a:ext cx="1295280" cy="52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6956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227160">
              <a:spcBef>
                <a:spcPts val="700"/>
              </a:spcBef>
              <a:buClr>
                <a:srgbClr val="000000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AA0-778C-499D-B761-3C278165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3B7-3DE1-41BA-883B-070A2D67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xts Revolutionize Learning for Students with Print Disabilities, Kindergarten through Graduate School and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0A26-7213-4E0E-B622-DC76CD23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MAC/NIM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ies ask Bookshare to convert K-12 textbooks from the NIMAC into student-ready form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week average processing time for NIMAC- sourced book requests b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ncourage state and local education agencies to partner with Bookshare.org in an effort to build the world’s largest digital library of accessibl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057400" y="3352680"/>
            <a:ext cx="3048120" cy="1524240"/>
          </a:xfrm>
          <a:prstGeom prst="roundRect">
            <a:avLst>
              <a:gd name="adj" fmla="val 16667"/>
            </a:avLst>
          </a:prstGeom>
          <a:solidFill>
            <a:srgbClr val="f37e2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133720" y="3505320"/>
            <a:ext cx="2819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ers who are interested in accessing textbooks that are not in the NIMAC are advised to contact their state’s NIMAC coordinator firs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5257800" y="3200400"/>
            <a:ext cx="1828800" cy="990720"/>
          </a:xfrm>
          <a:prstGeom prst="wedgeRoundRectCallout">
            <a:avLst>
              <a:gd name="adj1" fmla="val -71356"/>
              <a:gd name="adj2" fmla="val 31412"/>
              <a:gd name="adj3" fmla="val 16667"/>
            </a:avLst>
          </a:prstGeom>
          <a:solidFill>
            <a:srgbClr val="437f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81480" y="32767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e contacts can be found 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nimas.cas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87D-F8D2-45DB-88A9-79E845D9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bership Op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is done online at Bookshar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me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by title or aut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public domain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Memberships for non-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year with one-time $25 registration 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 Member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downloads for all qualified U.S. students through an award from O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organizations buy book download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Memberships fo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under the age of 18 need permission from parent/legal guar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9"/>
          <p:cNvSpPr/>
          <p:nvPr/>
        </p:nvSpPr>
        <p:spPr>
          <a:xfrm>
            <a:off x="5791320" y="1981080"/>
            <a:ext cx="2666880" cy="3429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429000"/>
              <a:gd name="textAreaBottom" fmla="*/ 3299040 h 3429000"/>
            </a:gdLst>
            <a:ahLst/>
            <a:rect l="textAreaLeft" t="textAreaTop" r="textAreaRight" b="textAreaBottom"/>
            <a:pathLst>
              <a:path w="21600" h="27772">
                <a:moveTo>
                  <a:pt x="3600" y="0"/>
                </a:moveTo>
                <a:arcTo wR="3600" hR="3600" stAng="16200000" swAng="-5400000"/>
                <a:lnTo>
                  <a:pt x="0" y="24172"/>
                </a:lnTo>
                <a:arcTo wR="3600" hR="3600" stAng="10800000" swAng="-5400000"/>
                <a:lnTo>
                  <a:pt x="18000" y="27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0"/>
          <p:cNvSpPr/>
          <p:nvPr/>
        </p:nvSpPr>
        <p:spPr>
          <a:xfrm>
            <a:off x="5791320" y="2133720"/>
            <a:ext cx="26668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ree for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ucational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eges and Univers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ource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habilitation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tirement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roup home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Community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3954-CC28-4BE8-AF70-8B5B5A88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Books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SY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15000" indent="-31500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ISY (Digital Accessible Information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books on a computer using visual presentation and/or synthetic speech (multimo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file more readable and easy to nav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9480" indent="19512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page numbers and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HTML, plus some extr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nd play on MP3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ort Description: screenshot1 &#13;&#10;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186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E9F-78A6-45CA-A61C-1A54F3B1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Books in the BRF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40464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F (Braille Ready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otetakers or refreshable Braille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books to embo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hardcopy Braille books online through partnership with Braille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Short Description: MPj04013110000[1] &#13;&#10;"/>
          <p:cNvPicPr/>
          <p:nvPr/>
        </p:nvPicPr>
        <p:blipFill>
          <a:blip r:embed="rId1"/>
          <a:stretch/>
        </p:blipFill>
        <p:spPr>
          <a:xfrm>
            <a:off x="3048120" y="3581280"/>
            <a:ext cx="3276360" cy="218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361-976A-4C5F-B800-2ABB8B0C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modal Rea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 ways to enjoy Bookshare.org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them (synthesized spe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m enlarged (on a PC screen or pri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d hear the word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Braille (digital or hard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hort Description:  &#13;&#10;"/>
          <p:cNvPicPr/>
          <p:nvPr/>
        </p:nvPicPr>
        <p:blipFill>
          <a:blip r:embed="rId1"/>
          <a:stretch/>
        </p:blipFill>
        <p:spPr>
          <a:xfrm>
            <a:off x="2286000" y="3352680"/>
            <a:ext cx="4572000" cy="264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73AA-48C1-48C0-B85B-7E0B556F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tible AT Softw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 flipV="1">
            <a:off x="990720" y="2437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762120" y="1295280"/>
            <a:ext cx="754380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T software supporting text-bas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anWare Victor Reader So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 Johnston Read:Out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rzweil 3000,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Y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-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om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876920" y="3200400"/>
            <a:ext cx="1600200" cy="1371600"/>
          </a:xfrm>
          <a:prstGeom prst="wedgeRoundRectCallout">
            <a:avLst>
              <a:gd name="adj1" fmla="val -70236"/>
              <a:gd name="adj2" fmla="val -93402"/>
              <a:gd name="adj3" fmla="val 16667"/>
            </a:avLst>
          </a:prstGeom>
          <a:solidFill>
            <a:srgbClr val="f37e2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343400" y="350532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al free version available for downloa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74C-3C27-40E9-967C-38687141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tible AT Hardw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T hardware supporting text-bas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Ware VictorReader Stream and ClassMate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Courier and Book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lle displays like the Braille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3 players (Educator or Member can conv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5" descr="Short Description:  &#13;&#10;"/>
          <p:cNvPicPr/>
          <p:nvPr/>
        </p:nvPicPr>
        <p:blipFill>
          <a:blip r:embed="rId1"/>
          <a:stretch/>
        </p:blipFill>
        <p:spPr>
          <a:xfrm>
            <a:off x="6095880" y="3733920"/>
            <a:ext cx="1933560" cy="14554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8"/>
          <p:cNvSpPr/>
          <p:nvPr/>
        </p:nvSpPr>
        <p:spPr>
          <a:xfrm>
            <a:off x="127080" y="46080"/>
            <a:ext cx="3800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27080" y="46080"/>
            <a:ext cx="3800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127080" y="46080"/>
            <a:ext cx="23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7" descr="Short Description:  &#13;&#10;"/>
          <p:cNvPicPr/>
          <p:nvPr/>
        </p:nvPicPr>
        <p:blipFill>
          <a:blip r:embed="rId2"/>
          <a:stretch/>
        </p:blipFill>
        <p:spPr>
          <a:xfrm>
            <a:off x="6095880" y="2209680"/>
            <a:ext cx="19335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D12E-66FF-48B6-898B-6EAC7EF1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at H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Bookshare.org from home on personal computers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n home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for pl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Short Description: Boy working at computer with mother helping. &#13;&#10;"/>
          <p:cNvPicPr/>
          <p:nvPr/>
        </p:nvPicPr>
        <p:blipFill>
          <a:blip r:embed="rId1"/>
          <a:stretch/>
        </p:blipFill>
        <p:spPr>
          <a:xfrm>
            <a:off x="3352680" y="3124080"/>
            <a:ext cx="2667240" cy="2667240"/>
          </a:xfrm>
          <a:prstGeom prst="rect">
            <a:avLst/>
          </a:prstGeom>
          <a:ln w="57240">
            <a:solidFill>
              <a:srgbClr val="437fc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F907-E47F-45AD-95D1-836F9F8B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in Schoo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th print disabilities keep up with their class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nd listen to book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what they are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8" descr="Short Description: girl sitting in front of computer &#13;&#10;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25401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EB4-BC88-493E-BE16-9E1A5D56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’s Go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very student with a print disability has equal access to materials as students without disabilities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the same books, periodicals and referenc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t the sa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high-qual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free or affordable access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44EE-0ACD-4CA7-8E5F-3CCE4F572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nyderman, Mod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the Undersecretary, U.S. Department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Frucht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O, Benetech, and Project Director, Book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Eri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, The Center for Literacy and Disability Studies (CLDS), University of North Carolina-Chapel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yla Par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 Student, Georgetown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10E-F440-4284-8C83-4836A18A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03760" indent="-20376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ntact information is on www.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and Organizational Membershi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accounts@bookshare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: </a:t>
            </a:r>
            <a:r>
              <a:rPr b="0" lang="en-US" sz="2000" spc="-1" strike="noStrike">
                <a:solidFill>
                  <a:srgbClr val="437fc1"/>
                </a:solidFill>
                <a:latin typeface="Arial"/>
              </a:rPr>
              <a:t>support@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nformation: info@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Short Description: laptop &#13;&#10;"/>
          <p:cNvPicPr/>
          <p:nvPr/>
        </p:nvPicPr>
        <p:blipFill>
          <a:blip r:embed="rId1"/>
          <a:srcRect l="10060" t="10589" r="10060" b="10589"/>
          <a:stretch/>
        </p:blipFill>
        <p:spPr>
          <a:xfrm>
            <a:off x="2971800" y="3657600"/>
            <a:ext cx="3255840" cy="22096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4" name="Picture 10" descr="Short Description: bookshare.org &#13;&#10;"/>
          <p:cNvPicPr/>
          <p:nvPr/>
        </p:nvPicPr>
        <p:blipFill>
          <a:blip r:embed="rId2"/>
          <a:stretch/>
        </p:blipFill>
        <p:spPr>
          <a:xfrm>
            <a:off x="3657600" y="4038480"/>
            <a:ext cx="182880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44B9-6BD2-46D6-BE09-8ECA6EE39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accessible materials important for students with print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41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access to text for reading and listening has a negative impact on vocabulary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-aged students learn ~3,000 new words each yea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ller &amp; Gildea, 1987; Nagy &amp; Herman, 1987; Nagy, Herman, &amp; Anderson, 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3rd grade, most of new words are acquired through read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agy, 1988; Nagy &amp; Herman, 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s not a substitute for reading/listening to text because speech does not have the lexical diversity of written langu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novich, West, Cunningham, Cipielewski, &amp; Siddiqui, 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of text types (breadth and depth) is required to maximize vocabulary develop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ardner, 2004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C95-602E-4DE9-9CC2-B91971D43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accessible materials important for students with print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29736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differences in exposure to print … affect both the development of cognitive processes and the declarative knowledge bases supportive of further gains in comprehension growth.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6, Stanovich, West, Cunningham, Cipielewski, and Siddiqui, 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2973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of text reading is significantly related to listening comprehension abil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drick &amp; Cunningham, 200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-51264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implications of accessible materials for personnel prepa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3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 of the relationship between listening and reading comprehen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rlisle, 1991; Stanovich, 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7640" indent="-401400">
              <a:spcBef>
                <a:spcPts val="349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&amp; listeners must know at least 95% of the words they encounter in text in order for basic comprehension to occ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u &amp; Nation, 2000; Laufer, 1989, 1997; Liu &amp; Nation, 1985; Wixson &amp; Lipson, 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s of Universal Design for Learning and related instructional planning processes (e.g., Planning for All Learners by 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s of  AT software and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82F8-30C5-49D7-8122-E1E9962CA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yla Parker discusses the challenges faced by students with print disabilities in obtaining accessi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 Stud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027-93CA-4AE3-A6E5-84260891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hare.org is a project of Benetech - www.benetech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tech’s nonprofit motto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echnology Serving Hum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Short Description: Boy in sitting in classroom with his hand in the air. &#13;&#10;"/>
          <p:cNvPicPr/>
          <p:nvPr/>
        </p:nvPicPr>
        <p:blipFill>
          <a:blip r:embed="rId1"/>
          <a:stretch/>
        </p:blipFill>
        <p:spPr>
          <a:xfrm>
            <a:off x="3505320" y="1600200"/>
            <a:ext cx="2185920" cy="3276720"/>
          </a:xfrm>
          <a:prstGeom prst="rect">
            <a:avLst/>
          </a:prstGeom>
          <a:ln w="57240">
            <a:solidFill>
              <a:srgbClr val="f37e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628-CF3C-4C1C-A853-9DA0416D8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EFF-FFCA-42F6-9ECD-B9664FCC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 without Barri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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Materia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deral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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hare.org fo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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ucational Need for Accessible Materials for Students with Print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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hare from a Graduate Student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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hort Description: Boy sitting on floor working on a laptop that is sitting on a pile of books. &#13;&#10;"/>
          <p:cNvPicPr/>
          <p:nvPr/>
        </p:nvPicPr>
        <p:blipFill>
          <a:blip r:embed="rId1"/>
          <a:stretch/>
        </p:blipFill>
        <p:spPr>
          <a:xfrm>
            <a:off x="6248520" y="2286000"/>
            <a:ext cx="1827000" cy="2743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1B64-4F88-4417-8559-4466A1D8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Bookshare.or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hare.org is an online library of accessible media for readers with print dis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26,000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,000 schools and o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9,000 titles in the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dreds of new books added every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324480" y="2590920"/>
            <a:ext cx="1981440" cy="259056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2590560"/>
              <a:gd name="textAreaBottom" fmla="*/ 2494080 h 2590560"/>
            </a:gdLst>
            <a:ahLst/>
            <a:rect l="textAreaLeft" t="textAreaTop" r="textAreaRight" b="textAreaBottom"/>
            <a:pathLst>
              <a:path w="21600" h="28239">
                <a:moveTo>
                  <a:pt x="3600" y="0"/>
                </a:moveTo>
                <a:arcTo wR="3600" hR="3600" stAng="16200000" swAng="-5400000"/>
                <a:lnTo>
                  <a:pt x="0" y="24639"/>
                </a:lnTo>
                <a:arcTo wR="3600" hR="3600" stAng="10800000" swAng="-5400000"/>
                <a:lnTo>
                  <a:pt x="18000" y="28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943600" y="2743200"/>
            <a:ext cx="2286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kshare.org believes that people with print disabilities should have the same ease of access to books and periodicals that people without disabilities enjo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CC1B-312D-44FD-924A-EC262510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kshare.org for Edu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1447920"/>
            <a:ext cx="7848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ctober 2007, Bookshare.org was awarded funding from the federal Office of Special Education Programs (OSEP)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Bookshare.org content and services </a:t>
            </a:r>
            <a:r>
              <a:rPr b="1" lang="en-US" sz="2000" spc="-1" strike="noStrike">
                <a:solidFill>
                  <a:srgbClr val="f37e21"/>
                </a:solidFill>
                <a:latin typeface="Arial"/>
                <a:ea typeface="ＭＳ Ｐゴシック"/>
              </a:rPr>
              <a:t>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.S. qualified print disabled students of any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d the Bookshare.org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educational materials requested by teac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extbooks from the NIMAC and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n Once, Shar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Short Description: screenshot of BKS Home Page (http://www.bookshare.org) &#13;&#10;"/>
          <p:cNvPicPr/>
          <p:nvPr/>
        </p:nvPicPr>
        <p:blipFill>
          <a:blip r:embed="rId1"/>
          <a:stretch/>
        </p:blipFill>
        <p:spPr>
          <a:xfrm>
            <a:off x="2971800" y="2286000"/>
            <a:ext cx="2971800" cy="141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E55F-D1D8-4DBD-84C8-C8046AB6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ts to Me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ccess to materials for students with print dis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for qualified students through an award from O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is available onli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membership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assistive technology software 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5181480" y="1905120"/>
            <a:ext cx="3200400" cy="3200400"/>
            <a:chOff x="5181480" y="1905120"/>
            <a:chExt cx="3200400" cy="3200400"/>
          </a:xfrm>
        </p:grpSpPr>
        <p:pic>
          <p:nvPicPr>
            <p:cNvPr id="115" name="Picture 13" descr="MPj04265620000[1]"/>
            <p:cNvPicPr/>
            <p:nvPr/>
          </p:nvPicPr>
          <p:blipFill>
            <a:blip r:embed="rId1"/>
            <a:stretch/>
          </p:blipFill>
          <p:spPr>
            <a:xfrm>
              <a:off x="5181480" y="1905120"/>
              <a:ext cx="3200400" cy="3200400"/>
            </a:xfrm>
            <a:prstGeom prst="rect">
              <a:avLst/>
            </a:prstGeom>
            <a:ln w="57240">
              <a:solidFill>
                <a:srgbClr val="f37e21"/>
              </a:solidFill>
              <a:miter/>
            </a:ln>
          </p:spPr>
        </p:pic>
        <p:sp>
          <p:nvSpPr>
            <p:cNvPr id="116" name="Rectangle 15"/>
            <p:cNvSpPr/>
            <p:nvPr/>
          </p:nvSpPr>
          <p:spPr>
            <a:xfrm>
              <a:off x="5181480" y="1905120"/>
              <a:ext cx="3200400" cy="3200400"/>
            </a:xfrm>
            <a:prstGeom prst="rect">
              <a:avLst/>
            </a:prstGeom>
            <a:noFill/>
            <a:ln w="38160">
              <a:solidFill>
                <a:srgbClr val="f37e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05C-AA18-444B-B843-98686C21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Libr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xtboo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wing number available from NIMAC, publishers and sch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acher Recommended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cial Colle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w York Times Best Sell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wbery Winn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decott Winn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oung Reader’s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anish Boo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ublisher Partnershi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pter books from Scholast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rperCollins bestsell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ver 600 technical books from O’Reilly 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iodical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ailable through our partnership with NFB News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0 national &amp; regional newspapers and magaz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5334120" y="1600200"/>
            <a:ext cx="2819160" cy="411480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114800"/>
              <a:gd name="textAreaBottom" fmla="*/ 3977280 h 4114800"/>
            </a:gdLst>
            <a:ahLst/>
            <a:rect l="textAreaLeft" t="textAreaTop" r="textAreaRight" b="textAreaBottom"/>
            <a:pathLst>
              <a:path w="21600" h="31526">
                <a:moveTo>
                  <a:pt x="3600" y="0"/>
                </a:moveTo>
                <a:arcTo wR="3600" hR="3600" stAng="16200000" swAng="-5400000"/>
                <a:lnTo>
                  <a:pt x="0" y="27926"/>
                </a:lnTo>
                <a:arcTo wR="3600" hR="3600" stAng="10800000" swAng="-5400000"/>
                <a:lnTo>
                  <a:pt x="18000" y="315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5410080" y="1752480"/>
            <a:ext cx="266724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MA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s Access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dividuals with Disabilities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ment  Act (IDEA) of 2004 requires states to address the critical difficulty in obtaining accessible textbooks for students with disabi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?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der the law, NIMAC provides a national repository to collect and store these files, in an accessible format called NIMAS (National Instructional Materials Accessibility Standard) and makes them available to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967-B6EF-4DFD-886B-130ED41F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gible Stud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371600"/>
          <a:ext cx="7619760" cy="4703760"/>
        </p:xfrm>
        <a:graphic>
          <a:graphicData uri="http://schemas.openxmlformats.org/drawingml/2006/table">
            <a:tbl>
              <a:tblPr/>
              <a:tblGrid>
                <a:gridCol w="2557440"/>
                <a:gridCol w="2531880"/>
                <a:gridCol w="25304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ed/Not Qualifi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 of Certifying Profession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ual Impairment (VI), such as blind or low vi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family doctor, ophthalmologist, optometrist, teacher of the visually impaired, Special Education teacher, certification from the National Library Ser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 Disability (PD) which affects one’s ability to read print, such as inability to hold a book or turn p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family doctor or other medical professional, physical therapist, resource specialist, Special Education teac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r Reading Dis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with a severe enough disability, and a professional certifying that the disability has a physical basi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neurologist, psychiatrist, learning disability specialist,  Special Education teacher, school psychologist, or clinical psychologist with a background in learning dis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ism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 Dis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H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L and E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qualified, unless accompanied by a visual or physical disability, or a qualified reading disability that has a physical basi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ples ab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" name="AutoShape 255"/>
          <p:cNvSpPr/>
          <p:nvPr/>
        </p:nvSpPr>
        <p:spPr>
          <a:xfrm>
            <a:off x="6629400" y="5486400"/>
            <a:ext cx="1447920" cy="838080"/>
          </a:xfrm>
          <a:prstGeom prst="wedgeRoundRectCallout">
            <a:avLst>
              <a:gd name="adj1" fmla="val 33550"/>
              <a:gd name="adj2" fmla="val -12121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cord of disability is kept at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000-F26C-42F0-B956-55D431B6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to Boo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447920"/>
          <a:ext cx="7924680" cy="2444760"/>
        </p:xfrm>
        <a:graphic>
          <a:graphicData uri="http://schemas.openxmlformats.org/drawingml/2006/table">
            <a:tbl>
              <a:tblPr/>
              <a:tblGrid>
                <a:gridCol w="2923920"/>
                <a:gridCol w="2616480"/>
                <a:gridCol w="2384280"/>
              </a:tblGrid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hare.org Downlo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Can Downlo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Qualific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omain boo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 with U.S. copyr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 with international permi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 and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fee Qual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MAC-sourced boo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ors (K-12 U.S. public schools and agenc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fee + I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AutoShape 5"/>
          <p:cNvSpPr/>
          <p:nvPr/>
        </p:nvSpPr>
        <p:spPr>
          <a:xfrm>
            <a:off x="5257800" y="4191120"/>
            <a:ext cx="2666880" cy="1828800"/>
          </a:xfrm>
          <a:prstGeom prst="wedgeRoundRectCallout">
            <a:avLst>
              <a:gd name="adj1" fmla="val -173962"/>
              <a:gd name="adj2" fmla="val -11993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okshare.org is authorized to produce digital books in accessible formats through an exemption in the U.S. copyright law called the Chafee Amend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53:55Z</dcterms:created>
  <dc:creator>Susie Mckinnon</dc:creator>
  <dc:description/>
  <dc:language>en-US</dc:language>
  <cp:lastModifiedBy>American Institutes for Research</cp:lastModifiedBy>
  <dcterms:modified xsi:type="dcterms:W3CDTF">2008-09-10T21:10:28Z</dcterms:modified>
  <cp:revision>573</cp:revision>
  <dc:subject/>
  <dc:title>PowerPoint Presentation</dc:title>
</cp:coreProperties>
</file>